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23A59E6-971A-44AB-AC9E-38A43FFA427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3AA6725E-037D-4810-8952-98FD91E7EB5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96CA4284-DEFB-446D-B973-B7FD196F3C8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8571A9D5-6218-49EF-ACDB-B9D46BA91E0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F9E13C10-8D57-493C-B2F5-767AFA6D998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9CD0BF-D9CE-4582-A385-DFE8C287714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38EE3E6A-2A72-4239-B4AF-294BBD37AE4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0C6D9BCC-80EA-43E4-87EA-08892F48EB1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2B6596EA-25A6-41A5-BBAC-E39893C0C8D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E47C0D5-7158-4805-B796-332E5232D8E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4E77AEB-0009-40A8-835A-79778AC8202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F785BAA-B53D-4204-9DCB-C7C492EDBC9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A6F26B-F990-4064-BE98-B87DA10AE15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536D5C-FF1D-454C-A2F0-F8CDCC1A3175}"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EC3F61A-0406-4E10-8983-405903886B64}"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6A27B9E-58C2-4DBB-9C92-1CCEE025C7AB}"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BE08979-39EE-4663-B75E-6A90AF157C39}"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0D25B5-EA36-4F28-90E1-9F180C7BDB33}"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8F99F8-0D15-475B-9B54-BDED393BF783}"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857434B-98E7-40E4-AAD4-83B8D5E5ED85}"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BDEDE0-8681-423D-8C70-C52460330FF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755BE7-64BF-40AB-AEA1-854AEED9FDB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6D08BDC-D64D-414E-8811-68EDB6BC790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C7EE6E-C451-4876-84E6-5778AA49548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29E690E-CC97-4C92-A55B-AED77633AA2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37F1156-9245-4F32-984D-E3F7B049CDC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D4ADC38-FA40-4F1C-98B2-BABEFCA3D95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CB0AAD-F476-4E6B-86A5-8D72A1A6B86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D8F9859-4D16-413B-84E3-F606C28DC3B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3B4B675-9B0B-4863-862E-1D16ECDDE6E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9C2865-1278-4AE1-9DFD-D575D9074F1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158FD2-F8B5-4DE4-9362-6EF2048A2E9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C3BF37-A2D0-45CD-AFD2-4E940F5916B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E63BE73-B14F-4194-A3F6-62540898064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615229F-F6E1-4176-BA55-5A14F04D9E7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370C8FA-0329-4A69-85A9-2C38B799B36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00F813D-9125-4C17-95FC-B96A25016BD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1475D4-B9C1-4490-9FA1-AA53F767A6D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84CA2BE-A271-4C2B-98C3-EB3FCF5F491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7227E4-E0AD-48AE-98B8-48BBB5F786F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D00FF5-B77D-4E0A-BE78-992106802CA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FD132F9-1480-41A7-8DD4-B78D012D3C8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329835-E8C1-47B9-AE5C-D958A16F6FB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8916472-C3FD-4750-AFB9-3F446A41AF1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791CE60-6280-4CAD-ABF8-A247C34DE88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FFF7981-F03D-49D3-8805-F409CC4BE2D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7C770A-AB5B-4E65-879B-079FB063193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39C485F-109F-44EB-8221-A19DA646D70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B76E31F-3203-44E6-87BB-BDEE162532C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DF7ACA-9868-46E4-9B53-59BF8DB1D376}"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87C7D06D-3CE4-4493-BB9A-B995CEB2AE8B}"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D0BCDD-2238-4D9F-99A1-AB7E851FD92C}"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48321E-1BD8-489B-97D8-CBDE6D568D9D}"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B87424-0F83-45A5-9BE0-B3CF1D13E06E}"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A108DA-6763-40F2-9427-305C3C5DC860}"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F87CC1D-70AA-4F72-8E5D-394379C37445}"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EDEBEB-4218-4E8A-8735-40840AF4FE4E}"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039B1B-1382-4737-A36D-062197AB1EA2}"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07EF70D-CEC7-4663-AD84-2870763AA520}"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D4C312-F3D8-4982-9906-356B4DBDF4B2}"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CF8BE4D9-A149-4CCC-B588-5B379C596110}"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8892E78-0F83-4BC4-9334-C919CFB24619}"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0B3F49C-7DD7-4806-83AC-4C5C4611BDBC}"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8681C0-246B-413E-8025-9DAF43AFC326}"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ACC696-0720-4E9D-8A2C-20E7A5C6AAF4}"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1A68BDD-4C83-4C23-98CA-9AD03ABB1481}"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83DF7B-1907-4223-B946-7C953B49D6AD}"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80295F-7C0B-4135-B793-234A720732FF}"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7D8C3E9-5A0C-4EF9-81A3-EB61008CF87F}"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42D010-E8DE-4CBB-BD4B-5E9202FEF6FF}"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7B1325-E825-4015-927E-702B6C03284B}"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EE108335-0383-4E31-A97B-7814A85DD875}"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D2714C9-E024-404B-A6D7-47F0177A6B5C}"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FBB2CD-4E13-44CC-BA13-5DD9DAE7FF7F}"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C99988D-B3B5-47AD-8567-1C95D9DCBF37}"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B70207-C501-4CB2-B889-299325807B25}"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9E4F25B-A872-4940-B937-308B182FE264}"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7464E5-6505-4F9C-96F3-2BDEF315BA60}"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8A8DE4-03BB-4ECE-854E-BF03321F8F67}"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B25004A-5A73-4F8B-9263-594F40F806DB}"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C27C1B6-D0FF-4B50-8A15-906E42B4563B}"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23BC57-E891-425C-9F0F-5D5DB1E325CD}"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14E5C2-4EC6-4DB3-9E5C-6CFCA4A8762D}"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37236EF-3149-4C29-A353-727419E02702}"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3BE1BB-6700-475B-8CAE-2E20FD4D6805}"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F768226-4283-4194-A2A0-528D0DC956E4}"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988B58F-362F-42AB-BBCD-9293A482FE38}"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2081149-6725-4329-94FB-270CD2C40DE4}"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8EA5AD2-AE32-4445-BE07-17442728902E}"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1F0960-0632-41CE-84B3-0C8B6F75DE06}"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5F67EA-1633-4AA3-B7B6-0F0EBADD96BC}"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967D20-E2B9-4F15-95E7-A272ACA507CF}"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3B5387F-2483-404B-BD09-935B5B7B7715}"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087645-B917-4C75-BF88-2F386E4C7ED3}"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9CC597-25FC-4D7C-9B98-EB92F25623F1}"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FC640F-2E23-4ADD-BA65-8A28BDF7E536}"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198925-B693-4AAB-A417-B3265390F5E7}"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988A50E-6017-4E4D-9128-608F65A828AA}"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7E50B7-B5E2-4CE3-B623-44DB8CE8562B}"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F2AE48-8F0E-47C2-9F24-72F9F209BA3C}"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A13CE25-D998-48AB-BBEF-B36F861A3A2B}"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31417A-A53E-4628-86B5-E2DDD62761EE}"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FCC4AB1-B2BD-48E9-B4AE-14253A4F0363}"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CCEB64-FF95-47D2-80A9-60B75C6FE8DE}"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E2CE315-E981-4B01-83F4-6199899C5020}"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071663-BD0E-479D-A2BB-5DA0E17D0993}"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DB28C5-7B79-458F-9F6F-9563EA795AFE}"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4DA60D8-5B92-4120-80A3-DAAE30AB841A}"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AABCE3-939B-40FC-ABC9-FFF73BDA89BB}"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1BFF5B-1911-4ABE-8466-966D928FB6CD}"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D04226-195D-4360-A0F4-6D367E913C17}"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ACD4AC0-86BB-4357-B8B5-A0A6A1F03EE8}"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2BB1155-2A70-4D1E-A67F-5CA2B8B1955D}"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234DF9D-2BDD-424D-ACBE-80C52810B367}"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FC9E05-3B70-4101-B55C-10AC0F835FE9}"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1A8CBB-C23B-43DF-9910-930A74C79B17}"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AC5B8E-1E1D-4B2F-BA06-1733C280BF80}"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