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71629-883C-4C53-B0E1-8D4A12384C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C7887-2EDB-496B-A0A3-13001E0475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696E1-36D9-4BFA-8FE9-1CC72BA105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CC6F-436E-46C9-A60E-01A231694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D31F2-56EA-4A41-9DE9-AEFDB7811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4DB2F-43FB-4FEA-95BC-57CD57B12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A5E2-86AE-47F7-84E6-6A87115D8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18A8-A416-4FE5-8968-7DC491376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21D8-8FFC-47FE-802B-912717243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E495-4E67-48E9-92CE-897F23664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850F9-1552-40F3-8C29-4507C273F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8323-FFC1-4D06-9EF2-65B8526D4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C15A0-97F4-407C-9FA9-B401BE0F8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7CE93-0B13-4381-BFD7-48E8F9F96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3424F-6391-4A5D-97B4-E5CE7D445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F9D3B-1811-45F7-B0E4-26DA0F5772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Nick Burch</cp:lastModifiedBy>
  <dcterms:modified xsi:type="dcterms:W3CDTF">2008-01-04T12:01:07Z</dcterms:modified>
  <cp:revision>5</cp:revision>
  <dc:subject>A sample slideshow</dc:subject>
  <dc:title>SlideShow Sample</dc:title>
</cp:coreProperties>
</file>