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comments/comment1.xml" ContentType="application/vnd.openxmlformats-officedocument.presentationml.comments+xml"/>
  <Override PartName="/ppt/comments/comment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294813"/>
</p:presentation>
</file>

<file path=ppt/commentAuthors.xml><?xml version="1.0" encoding="utf-8"?>
<p:cmAuthorLst xmlns:p="http://schemas.openxmlformats.org/presentationml/2006/main">
  <p:cmAuthor id="0" name="XPVMWARE01" initials="X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<Relationship Id="rId17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07-10-23T09:14:49.723000000" idx="1">
    <p:pos x="3472" y="1558"/>
    <p:text>testdoc</p:text>
  </p:cm>
</p:cmLst>
</file>

<file path=ppt/comments/comment2.xml><?xml version="1.0" encoding="utf-8"?>
<p:cmLst xmlns:p="http://schemas.openxmlformats.org/presentationml/2006/main">
  <p:cm authorId="0" dt="2007-10-23T09:17:10.968000000" idx="2">
    <p:pos x="2718" y="1679"/>
    <p:text>test phrase</p:text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ldImg"/>
          </p:nvPr>
        </p:nvSpPr>
        <p:spPr>
          <a:xfrm>
            <a:off x="1106280" y="696960"/>
            <a:ext cx="46479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8497B90-AAE9-4A48-AA67-1A3BCA1FD06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txBody>
          <a:bodyPr lIns="91800" rIns="91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928044-15E1-4A80-801A-C817F074F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20E5804-478C-405D-8849-85227FF441A9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C1FC835E-76F1-4AEF-BADC-14E10DFF83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206D723-CAF2-46E3-967E-A4138B58C55F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675A5D0-812E-48BC-BC73-8D8FB68E1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8AA9839-8ED8-4315-A54D-9CAA19351D40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0E38E0EB-0A30-46A8-8158-7AF01FF48E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E176654-97F6-46C4-A092-3DBB4B748E77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BB9B3A3-6C80-48E1-8B42-BEDE777E2A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62BE178E-DBF2-4661-A39A-74392F9CD0A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49AA545F-5B70-45EA-BBCE-4F536D0BCF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E72F046-1CD2-4226-A3D6-F0DD3E54F034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B09E6A79-5B37-43C6-B272-D6496ADFC8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F8FE8962-D70F-433D-9509-FE1E92A16C26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4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F7F857C-3663-4356-BC0C-808E7BFC60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301B1D86-5848-41EA-8AE4-BEF520C54BC3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5DEA68CE-F503-4F0E-B512-BD0103B997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7537E2A4-8C8F-4B86-9DE1-07EFE8D30BD2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1C55C21B-2273-48D5-8FD0-8EACDA87A07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95B1D1B3-1161-40AA-AD80-E83B19A3968E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6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8EE00426-AC8F-4C77-8F57-6FAC3F74A4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3884760" y="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D61839D2-4CC6-4DE4-84BA-F952E1D51115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3884760" y="8831160"/>
            <a:ext cx="2973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800" rIns="91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E14A0066-E387-4662-BD4F-72C7E96F8E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06640" y="696960"/>
            <a:ext cx="4647960" cy="34862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5840" y="4417560"/>
            <a:ext cx="5026320" cy="419364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000000"/>
            </a:solidFill>
            <a:miter/>
          </a:ln>
        </p:spPr>
        <p:txBody>
          <a:bodyPr lIns="6120" rIns="6120" tIns="6120" bIns="61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11A91-89E8-47F3-8154-804DE2F57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F834C-AA6F-47E1-8CF7-F130FEFEB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2AA6-0E52-4A24-9CD4-37F23D6ED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6FBC-9724-46E5-869E-9837401E2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486C5-4371-42CB-BD91-F23181626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F7DF-124E-4C39-9A1A-BB2D242AB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6E686-E27F-49D7-8B1A-3BE3C79EB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8C6BB-0C28-4641-B54A-4A09C3290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E30B1-5E51-4BB0-8C69-4D8C74938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68222-4D13-4A38-86D0-E6FAF13C0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1C4A9-AE90-4170-AAA5-61E25310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2ECA-9883-461D-90A7-04A64D626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89941A-8979-4D6F-B975-E5C4922CC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3CB7D-85BF-47C4-BE2A-BAC0A1BF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44D68-A620-4E87-B545-27185A037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E2C9-FEE8-4E4F-842C-F3297D05D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748BA-11D7-4BAA-903A-9B0B00282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FA8CC-5238-47F3-AB7F-4876B0F1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DAB3-273D-49E3-ABFE-E42CD826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5F7A-BF55-4F74-BC45-51EA30C06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70A0-577D-4862-B2F6-057E79A93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6BF8-3D88-41F8-B7A4-2F9F20953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7225-A817-4732-9F20-658AFF91C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5724-25A5-43CA-B66F-BE49A6AAA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52280" y="1752480"/>
            <a:ext cx="4724640" cy="15264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685800" y="6629400"/>
            <a:ext cx="3505320" cy="227160"/>
          </a:xfrm>
          <a:prstGeom prst="rect">
            <a:avLst/>
          </a:prstGeom>
          <a:gradFill rotWithShape="0">
            <a:gsLst>
              <a:gs pos="0">
                <a:srgbClr val="761800"/>
              </a:gs>
              <a:gs pos="50000">
                <a:srgbClr val="ff3300"/>
              </a:gs>
              <a:gs pos="100000">
                <a:srgbClr val="7618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762120" y="762120"/>
            <a:ext cx="8380440" cy="76176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AEF81-2779-4BC4-A3D3-A19E9A8CFF8E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2f5e"/>
            </a:gs>
            <a:gs pos="5000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2"/>
          <p:cNvSpPr/>
          <p:nvPr/>
        </p:nvSpPr>
        <p:spPr>
          <a:xfrm>
            <a:off x="380880" y="0"/>
            <a:ext cx="1447920" cy="6856560"/>
          </a:xfrm>
          <a:prstGeom prst="rect">
            <a:avLst/>
          </a:prstGeom>
          <a:gradFill rotWithShape="0">
            <a:gsLst>
              <a:gs pos="0">
                <a:srgbClr val="003f7e"/>
              </a:gs>
              <a:gs pos="50000">
                <a:srgbClr val="0066cc">
                  <a:alpha val="50196"/>
                </a:srgbClr>
              </a:gs>
              <a:gs pos="100000">
                <a:srgbClr val="003f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6" name="Rectangle 3"/>
          <p:cNvSpPr/>
          <p:nvPr/>
        </p:nvSpPr>
        <p:spPr>
          <a:xfrm>
            <a:off x="685800" y="2438280"/>
            <a:ext cx="8456760" cy="762120"/>
          </a:xfrm>
          <a:prstGeom prst="rect">
            <a:avLst/>
          </a:prstGeom>
          <a:gradFill rotWithShape="0">
            <a:gsLst>
              <a:gs pos="0">
                <a:srgbClr val="0066cc"/>
              </a:gs>
              <a:gs pos="100000">
                <a:srgbClr val="00101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0" y="3505320"/>
            <a:ext cx="4724280" cy="152280"/>
          </a:xfrm>
          <a:prstGeom prst="rect">
            <a:avLst/>
          </a:prstGeom>
          <a:solidFill>
            <a:srgbClr val="00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Click to edit the outline text format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con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Third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our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Fif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ix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Seventh Outline Level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7BAF2-27BF-4A01-BE39-82F55AB1288B}" type="slidenum">
              <a:rPr b="0" lang="en-US" sz="14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99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Text Box 7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2" name="Text Box 8"/>
          <p:cNvSpPr/>
          <p:nvPr/>
        </p:nvSpPr>
        <p:spPr>
          <a:xfrm>
            <a:off x="1295280" y="2438280"/>
            <a:ext cx="6553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In summary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and structuring may not be a source of funds, but can help bring funds and enhance the long term sustainability of water projec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ll actors, all sources, all structures must be explored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moving financing obstacles through project structuring</a:t>
            </a:r>
            <a:r>
              <a:rPr b="0" lang="en-US" sz="4400" spc="-1" strike="noStrike">
                <a:solidFill>
                  <a:srgbClr val="f0fc02"/>
                </a:solidFill>
                <a:latin typeface="Plain"/>
                <a:ea typeface="Times New Roman"/>
              </a:rPr>
              <a:t> 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2" name="Rectangle 4"/>
          <p:cNvSpPr/>
          <p:nvPr/>
        </p:nvSpPr>
        <p:spPr>
          <a:xfrm>
            <a:off x="1219320" y="5180040"/>
            <a:ext cx="670536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ntonio Vive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Manager, a.i.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Sustainable Development Department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6f002"/>
                </a:solidFill>
                <a:latin typeface="Times New Roman"/>
              </a:rPr>
              <a:t>Inter-American Development Bank</a:t>
            </a:r>
            <a:endParaRPr b="0" lang="en-US" sz="20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33" name="Object 5"/>
          <p:cNvGraphicFramePr/>
          <p:nvPr/>
        </p:nvGraphicFramePr>
        <p:xfrm>
          <a:off x="4038480" y="3733920"/>
          <a:ext cx="1067040" cy="129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038480" y="3733920"/>
                    <a:ext cx="10670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Text Box 6"/>
          <p:cNvSpPr/>
          <p:nvPr/>
        </p:nvSpPr>
        <p:spPr>
          <a:xfrm>
            <a:off x="3032280" y="2048040"/>
            <a:ext cx="405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1219320" y="24382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Access to Finance for Local Governments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IV World Water Forum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6f002"/>
                </a:solidFill>
                <a:latin typeface="Times New Roman"/>
              </a:rPr>
              <a:t>March 17, 2006</a:t>
            </a: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4400" spc="-1" strike="noStrike">
                <a:solidFill>
                  <a:srgbClr val="f0fc02"/>
                </a:solidFill>
                <a:latin typeface="Times New Roman"/>
              </a:rPr>
              <a:t>Outline of the present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Project structuring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AutoShape 2"/>
          <p:cNvSpPr/>
          <p:nvPr/>
        </p:nvSpPr>
        <p:spPr>
          <a:xfrm>
            <a:off x="838080" y="2895480"/>
            <a:ext cx="1662120" cy="2286000"/>
          </a:xfrm>
          <a:custGeom>
            <a:avLst/>
            <a:gdLst>
              <a:gd name="textAreaLeft" fmla="*/ 0 w 1662120"/>
              <a:gd name="textAreaRight" fmla="*/ 1662480 w 1662120"/>
              <a:gd name="textAreaTop" fmla="*/ 0 h 2286000"/>
              <a:gd name="textAreaBottom" fmla="*/ 228636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6" name="AutoShape 3"/>
          <p:cNvSpPr/>
          <p:nvPr/>
        </p:nvSpPr>
        <p:spPr>
          <a:xfrm>
            <a:off x="289548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7" name="Rectangle 5"/>
          <p:cNvSpPr/>
          <p:nvPr/>
        </p:nvSpPr>
        <p:spPr>
          <a:xfrm>
            <a:off x="7010280" y="3048120"/>
            <a:ext cx="1676520" cy="2133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876920" y="2971800"/>
            <a:ext cx="1600200" cy="2209680"/>
          </a:xfrm>
          <a:custGeom>
            <a:avLst/>
            <a:gdLst>
              <a:gd name="textAreaLeft" fmla="*/ 0 w 1600200"/>
              <a:gd name="textAreaRight" fmla="*/ 1600560 w 1600200"/>
              <a:gd name="textAreaTop" fmla="*/ 0 h 2209680"/>
              <a:gd name="textAreaBottom" fmla="*/ 221004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09" name="Text Box 7"/>
          <p:cNvSpPr/>
          <p:nvPr/>
        </p:nvSpPr>
        <p:spPr>
          <a:xfrm>
            <a:off x="914400" y="396252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NEEDS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274320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Preparation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4724280" y="388620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Structur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6858000" y="39625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Financing</a:t>
            </a:r>
            <a:endParaRPr b="0" lang="en-US" sz="2800" spc="-1" strike="noStrike">
              <a:solidFill>
                <a:srgbClr val="ffff66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762120" y="838080"/>
            <a:ext cx="7924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Project finance cycle</a:t>
            </a:r>
            <a:endParaRPr b="0" lang="en-US" sz="40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One of the major obstacles to water and sanitation finance is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ow 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 local affair, sometimes removed from decision making center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icult political and 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carcity of financial resources: users, taxpayers, market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roject preparation not given the key rol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preparation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98072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and multilaterals financial institutions must emphasize support for the early stag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e at the IDB hope to approve on Monday a Project Preparation Fund with grants for capacity building and project prepar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onors should consider “debt for water swaps” as part of their official assistance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Both would leverage other funds: “teach them how to fish instead of giving them fish”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nancial structures adapted to local rea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Exploit all possibilities to maximize synergies between scarce resources: own labor, tariffs, donors, multilaterals, public and private resourc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one extreme, cooperatives, water microenterprises, municipal utilitie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 the middle, management contracts, for operation, maintenance, collections, etc.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At the other extreme, full-fledged concess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0fc02"/>
                </a:solidFill>
                <a:latin typeface="Times New Roman"/>
              </a:rPr>
              <a:t>Project structuring: local conditions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illingness to pay/local view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ariff sustainabil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Site and location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Institutional capacity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iscal space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egal framewor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Political risk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acroeconomic conditions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1538280" y="115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Arial"/>
            </a:endParaRPr>
          </a:p>
        </p:txBody>
      </p:sp>
      <p:graphicFrame>
        <p:nvGraphicFramePr>
          <p:cNvPr id="123" name="Object 3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24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Text Box 4"/>
          <p:cNvSpPr/>
          <p:nvPr/>
        </p:nvSpPr>
        <p:spPr>
          <a:xfrm>
            <a:off x="0" y="2819520"/>
            <a:ext cx="150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cal conditions</a:t>
            </a:r>
            <a:endParaRPr b="0" lang="en-US" sz="1800" spc="-1" strike="noStrike">
              <a:solidFill>
                <a:srgbClr val="ffff66"/>
              </a:solidFill>
              <a:latin typeface="Arial"/>
            </a:endParaRPr>
          </a:p>
        </p:txBody>
      </p:sp>
    </p:spTree>
  </p:cSld>
  <p:transition spd="slow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f5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f0fc02"/>
                </a:solidFill>
                <a:latin typeface="Times New Roman"/>
              </a:rPr>
              <a:t>Water financing model</a:t>
            </a:r>
            <a:endParaRPr b="0" lang="en-US" sz="4400" spc="-1" strike="noStrike">
              <a:solidFill>
                <a:srgbClr val="f0fc02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Sesión FT3.40,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omingo 19 marzo, 11:00 am 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ffff00"/>
                </a:solidFill>
                <a:latin typeface="Times New Roman"/>
              </a:rPr>
              <a:t>Diezmo 4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transition spd="slow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0T16:31:11Z</dcterms:created>
  <dc:creator/>
  <dc:description/>
  <dc:language>en-US</dc:language>
  <cp:lastModifiedBy>grizob</cp:lastModifiedBy>
  <cp:lastPrinted>2002-05-03T16:19:44Z</cp:lastPrinted>
  <dcterms:modified xsi:type="dcterms:W3CDTF">2008-07-08T14:13:24Z</dcterms:modified>
  <cp:revision>504</cp:revision>
  <dc:subject/>
  <dc:title>Removing financing obstacles through project structuring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LinkColor">
    <vt:r8>16711782</vt:r8>
  </property>
  <property fmtid="{D5CDD505-2E9C-101B-9397-08002B2CF9AE}" pid="9" name="Other">
    <vt:lpwstr/>
  </property>
  <property fmtid="{D5CDD505-2E9C-101B-9397-08002B2CF9AE}" pid="10" name="ScreenSize">
    <vt:r8>1</vt:r8>
  </property>
  <property fmtid="{D5CDD505-2E9C-101B-9397-08002B2CF9AE}" pid="11" name="ScreenUsage">
    <vt:r8>2</vt:r8>
  </property>
  <property fmtid="{D5CDD505-2E9C-101B-9397-08002B2CF9AE}" pid="12" name="ShowNotes">
    <vt:bool>0</vt:bool>
  </property>
  <property fmtid="{D5CDD505-2E9C-101B-9397-08002B2CF9AE}" pid="13" name="TemplateType">
    <vt:r8>1</vt:r8>
  </property>
  <property fmtid="{D5CDD505-2E9C-101B-9397-08002B2CF9AE}" pid="14" name="TextColor">
    <vt:r8>0</vt:r8>
  </property>
  <property fmtid="{D5CDD505-2E9C-101B-9397-08002B2CF9AE}" pid="15" name="TransparentButton">
    <vt:r8>0</vt:r8>
  </property>
  <property fmtid="{D5CDD505-2E9C-101B-9397-08002B2CF9AE}" pid="16" name="UseBrowserColor">
    <vt:bool>1</vt:bool>
  </property>
  <property fmtid="{D5CDD505-2E9C-101B-9397-08002B2CF9AE}" pid="17" name="VisitedColor">
    <vt:r8>10040268</vt:r8>
  </property>
</Properties>
</file>