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B3D6FD5-D209-4F80-8F07-EB7229484F8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10A0045-11E8-466A-8D51-7A1E8BCAD69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BA8129A-7A88-407C-8C5F-B2E9164D7D3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D1874BA-5559-432A-89CE-5E138DC23A0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45EAC6D-87C2-407A-B861-593B6C0744F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4D62AF5-75B6-4712-ABCF-22990309E75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2AA2272-BF72-415D-BFB1-BD832473E28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65750C7-0E29-4316-8C73-28C0D711926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82EFC00-E7AE-4A64-8057-AD8D4661354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B25D869-0409-4EE2-8DC5-9FC27316D5E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B071D49-7D63-4939-B4CF-FC6F422782A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4A143F1-F93D-453F-A26B-CCD265E8C7C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7EF5B65-D8DA-494F-ABA8-54C062AA4A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5DC4788-465D-48B8-A3A0-5C7A22F62F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40FA57E-0E3E-49FE-87B8-B15DA32994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8EF465A-4344-4EF8-AF09-26FC96F748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BC5CB12-8CC1-449C-8156-991BEF9F24F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3997444-D4A8-48D3-9C26-9423CF9F053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65F1245-E6D7-4507-85A5-EA9EC2EF9E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B3A128E-3FEC-49C3-9047-EF2CDCEA694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8BDC069-4EBD-428D-829F-00B062AD740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DAEFB0A-4B57-44FE-9F92-F510E4CC5DD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1E1AF2E-E973-4D9E-8D88-4A4A28969DC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9242706-978B-4F6F-9C4A-4DB56F1270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675914A-7D7D-4631-9872-C8DE00E1AC2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A92F614-6CFA-4289-A671-23F706D81E2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0290E70-9DEB-4EDF-B1DD-700872BED93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9CD4CEA-3C8A-4BC7-966B-F3D53C02E7F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A80C21D-9E86-47DC-96BA-97C6ACF7820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680EB8D-3A32-4CE5-BD33-77B48ADCF5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1ED9674-B165-4D1F-B3AB-8D0962705D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C90DF77-0EC9-4273-8723-F4AE567647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B994DF4-5008-487A-AF72-133A919B31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BE66C0-355D-4F15-BB90-F69F70B005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AA519B-E090-46C3-8D14-EB25C85FE2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0B7BCC-4BB6-4620-82AD-0271BE4181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8EA78-B579-4AB8-8B36-E1949CD32357}"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55C93-6E32-4BC4-A46E-9B3157673E6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B85582C-B173-477C-93AC-F3DAAB1BD683}"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D051B10-88DE-40E7-B436-9D2C32B16E4E}"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385A811-1B36-42CB-961A-8BE446A2EDA7}"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FE5D2F9-E57B-4ACD-A86C-D8E5D9B60A6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6720130-F1D5-477B-963F-DC3036068EEF}"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F8AA41D-9BFF-4053-822C-FFF424AE1133}"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85EE695-2499-490B-AC13-B6E9700A20D4}"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747A75A-322D-49B7-B363-0FD681BB2779}"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EAB747A-20BA-4F53-B734-A5EFAFC5216D}"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4C197F8-F64F-4572-ACF1-73BC31909946}"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DF20F11-2C84-49E5-89DB-DA58E2FD28E2}"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F989EC72-7383-46A2-A611-5434483B1FA0}"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ED9A292-EFC4-4AD3-BA9A-3F9C9884C7AF}"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F181631-A837-46DF-B051-C96D43B85DB8}"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3ABC822-E9E8-4BD6-A259-78A05343631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4E1BC09-52E3-4D20-9D1D-2AB0990AB344}"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96FF272-5614-4EAA-8C57-156665CCDE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12A00A5-BE62-4CF4-B7E9-5A32D3A910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B860300-07FA-46A7-8346-80E6C51AEC0C}"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8E7230A-BAE6-4260-8DF5-399FD098D9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3097499-0E46-49A9-96FA-B40C4DC92D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006268E-07D2-4510-96BC-6F1B8D73AE48}"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68252BB-1063-4C6E-B2FD-5F73F9F64B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44E9B55-5247-4F79-ADF7-E0DB0136B7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4B1709B-C6ED-410A-A24F-A7DA6C2BF5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4A56990-7B94-4475-8C99-9A4E80CE23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F6EE6D1-D0C1-4DC7-AC12-2236999B148A}"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82AD9C1-7149-4A4A-AAF3-DC8E067432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F919AA1-883D-485E-9E7F-D382F728BD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C17EB6B-3E59-4439-BD28-39B2FF6250AB}"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7BACA79-72A3-42AB-A340-E6F2597B680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7EBCE79-B693-4680-8AE4-39177622C85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AA5E834-8E49-4607-9C48-8F7EB31200A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A8FF17E-0689-4A09-B986-63341CEFDCB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FD61721-0530-481E-8049-8522493371F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D20628B-5DCB-4429-9CCA-3DE57F39747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212D451-9442-401B-A8C6-0F7B6EDB4C7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98B9DCD-1CDF-4A3B-9E96-E689B24FAD8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F5CFC80-C326-44D7-8737-EB32A7AB9F5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EB5BF15-A265-4D73-97C2-AF9290AB283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63B7461-FE95-4C9A-8BFC-83A18A5CF5A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565E29B-BD34-45A9-BDC7-8017712BD12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679E212-BED9-4151-9F4C-4439BFC0309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9437F18-6CC7-4745-8F9C-BDA6BF2098C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952201C-345F-4512-8761-26B0AEA73B8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A537894-14E6-495A-8E6F-43E075BEC8B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8DB9ABA-D023-4C4B-ACF7-69827B24D8EE}"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234AC30-7319-4183-AE94-D9FD1AC7846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9962CE8-256E-4F6E-873A-9D35134237C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BCEA32C-6634-4023-8BDD-F451B749D99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20DBE4C-120A-425A-BC54-30ABCA22E76F}"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472470B-6437-4FC8-ACB4-BCB755248EC8}"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8468F0F-FDDD-4063-8F78-77467B64DA5B}"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0E97AE9-959A-474A-B5DE-5E232DB02E0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A307D9E-3209-4AC5-B01D-AF5ECAD4201D}"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C30D74C-310F-48CA-8C1B-165EE0D98718}"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1AD93A6-B7E1-4CC0-97DA-0A43D7A9E239}"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DB0494F-7DF6-4655-B7A3-387979E33E12}"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D11D018-E4E6-4A86-83E9-59604B798BBB}"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7023D24-0E0E-41F9-B053-785405BC570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66D4D15-49C1-4F85-AB04-E2430182CED6}"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CB36885-D456-4C0B-81B4-B259FD9350CA}"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F4EDA25-AB98-4BA9-897C-B0978D03E53A}"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50D1F2E-5404-41E0-95CC-C8F1DDCBBB5B}"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4D33762-5AEC-4372-BBDC-42F50906312D}"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F11211A-F39B-4794-A43B-D343103148E8}"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1F88598-8C8F-48EB-8CD6-F04F19846439}"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CBA776B-420B-4CD3-82B5-337F525910EB}"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4BBA744-8F30-4979-8C71-83E2C8A00F3E}"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3832BC0-9BFC-469C-954A-76757C4448A3}"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5419E56-E826-416E-91C0-B4BEEF2ABA27}"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5EB1BED-B935-41E0-94E8-2CB06268F6F5}"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16EB20D-154B-4A15-855D-4CBC518E8195}"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6388638-94A5-4805-AAFF-56AE1F7D2C09}"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158120C-547A-4183-A812-74B2CC771A2D}"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8898642-D6DE-463A-A46C-3B2F2F7486B4}"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AD79E0F-857B-43F1-85DC-1D50729CB21C}"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8591B88-490C-4B42-87A5-4DDB4D3B864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DB33EA8-4404-462E-B52C-27F1C83466A1}"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49B6D03-E27F-4B07-AFE8-B5ABD88A881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9A44816-21B1-4DA1-9A71-F67211884E66}"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F1F1F4D-94D4-45DF-A8FB-FA4D980C8468}"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46995B7-A4BB-47E3-91FF-1771730EF8A7}"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972E6AA-D52C-4523-8C1D-2363C64D8EC4}"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A6F3483-0AF9-45AF-A36B-2FC54CB90ACF}"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761D3E0-7CDF-44C0-8AA4-2B1E778FF504}"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EDA4EED-E6D1-4CE2-9E4A-373442323445}"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64856E8-941B-4A46-8E57-57D40BBE8631}"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41756B2-FB40-4E28-91CD-40803333EC28}"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482F8D5-865B-4335-B4B7-72D21F8EDFAB}"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0E1BDE5-6561-4669-800F-7B48755C4AC0}"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60711C-581F-4BA3-968B-936F4CD1FEDD}"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E8DB3ED-04CF-4D1E-B9AD-3FAF08EB0818}"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5B3A3FF-39E8-41EE-9C5C-483A5F61DCD3}"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5E2D54C-30FD-4D8E-9D49-57894C309DC1}"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256F588-E235-4E12-84BF-E94AED9D76E2}"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844AEA4-A0E3-4595-941E-23D4BE114B2B}"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26AF3D99-4BDB-496F-825F-EFABCC6C6FEF}"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CF3405-D1D6-4E6A-B4C6-5000940CEE34}"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367EABF-A456-4C9E-9AE7-4C443DCD9672}"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C0AB983-3CBB-45AE-8AC3-814EFEA22AF7}"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C11FF4D-4A04-4348-8D7B-EAEB9E0676F3}"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92E875F-8576-454D-B5C3-7DA3C50B6371}"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4D04D14-8C5C-42D1-AF95-37F4CC27F4B8}"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9295F39-855D-4D87-8091-3156AC75A804}"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D9236A1-34CC-4BB6-B73B-086768D4A439}"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05172D-46D2-46F0-8FDD-A3A77F63D46D}"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43D5615-DDF8-4914-8E7C-F74F85F56443}"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949D6FA-EC9F-4018-A3D9-3037725DD959}"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5A33D0A-0A6B-49D5-8C00-79F97EC380B6}"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8334789-2091-4316-A206-D0E13AB60613}"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