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BD89BBD-1243-4822-A3E0-DC63FB7B81D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A94B671-85A8-4337-87AC-C9861F3E102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1037C77-DB4D-4496-B832-EECA1D62078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70EEDA4-3540-4E3F-9252-489ED6269C8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7779201-2261-45AB-B21F-ED7572C46C0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04AC1BB-C514-47EF-948B-57B5BC4CDC9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DB37C09-284F-47F4-B021-B8F63CF6FB3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4FB6363-EDD4-4FCF-B820-63515E4B3B8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FF3EFE8-4F68-4DD7-A1DF-766E6E62AE4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214A5BF-D953-4FC8-A6C3-CA4D7503976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810C441-9C61-4476-8505-D23050656D1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2AC4E1E-A15E-4609-A794-A67F62988EA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09A08A5-3578-495E-8070-11942A573A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C7F0E26-0679-4C88-85B0-760FD1B4C1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DD0A946-9C59-4AE9-AF61-78E6FFA9BC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D0226A5-B93B-4F07-8EAF-A2473F1E5A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3222BC3-1732-4CBB-AEFC-6793FC5EE6F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CEDC27E-B080-4777-81B0-18FC604EAFB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548638F-42E8-4B02-8908-7AFDC7D8D2F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D1DDB26-7FF8-47FA-927A-F58D0A1400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E2981DD-E5D2-412A-86E9-BC896F3811F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EC27044-3AD5-413F-AE6F-6D2B3822E3E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65B6E20-4DE9-4A4C-9DBC-E32B252C804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AA8334-59DD-46D5-A8F2-96C37A76FB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12CE185-5736-458F-B134-E6EF67893E3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5E88399-A96C-4496-B138-C986B5A6AE5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B390189-34D1-4E24-B360-D6AF628A253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2C5AD07-2E88-4981-B5F9-09D653D2EB0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948137A-11C9-4F79-A92D-62E7EC65507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8CBE5EA-9D4A-4104-B89A-392984B772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2EC8334-823D-4410-95E1-4AD95947D1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37C362-ECC0-4852-A228-7E484CF3A7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536BA8-2433-4F9C-BD34-7C411B08F6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E4C924-C5C6-4498-BA37-DB249D6BE3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945CF0-9727-4A10-BE20-8A73EB86A2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5B2866-A1F8-4BF1-B4EE-2BFE8438D9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9A4A8-51AD-4CA9-99DA-F13FB18B870E}"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99D3C-E9E4-449A-979E-28180AFA356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E994866-260C-407B-B0B0-CC8507AC0DF7}"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8DB9481-7DFB-4459-B244-98447EE48959}"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1E418D-DC99-40EC-A26D-A33C43D2E9F9}"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A3EBAD1-2780-4348-83ED-537E92A3BE2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FC826EA-6B3E-43AF-980F-7F583C605E3F}"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7870760-30CA-4150-A375-D527F7DA894B}"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7CF0D57-B69A-4527-80E1-933B5BFC6DB9}"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1AE0532-E337-474A-B5E3-096CD60F8DDA}"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92B4FC0-F1A5-4E41-BC17-C0038ECBB0FF}"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369C405-5228-488A-87E2-ABE196F64B99}"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DE98AE3-2CE3-4AB7-9BF5-3D0EEAC8670D}"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6F362ADA-A5D2-40F3-8CE7-31ABCDDED4E9}"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37496DC-9CC5-4669-AC22-8744054CD2D7}"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24BF6F4-D8D8-4FAA-88E5-E4F5D44DDD4B}"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F1D10B4-78F1-4BAD-B9CB-501FD043321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6611334-CD69-4D47-B001-1EC31FD3EBE1}"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C1E4801-999D-45B7-BFD7-F614438764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0F7DAB9-9044-4221-B50C-F38636F7CC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764A2F0-D26B-44EE-8651-63BA8ED5FDAD}"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5C4DF56-D2B4-4ABF-9301-BBB24823F8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7D0372C-E96B-4240-BDDB-1A5648FC76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80818CD-A509-4AC6-A8CF-C0C0138C1EF2}"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C7FD411-6A98-4761-BBA2-EB065F5311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F31342F-AC5C-4D39-92D2-739D27D39F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58F7585-7D74-4332-BF01-BDF92693C7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C739087-065A-4EEC-932A-699FFBC3B8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B553C87-F189-4DB8-81B6-28F73771907B}"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43A9227-DD71-404F-B3DF-F837C254D2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1D8E97E-9FAF-49A3-AE7B-DD7F878C9B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CE2358B-E321-4A8C-82E1-E4FEF853FE2E}"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22A1240-C225-4932-AAAB-DD37BBDC7CE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4E68047-C70B-45AE-951D-8BBD565C476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C2759F6-103A-4422-B73C-97C7169E0E3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45C1C3B-19F8-48CD-BA34-0AFEBB46DD7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2CF6A66-7366-4F0F-AB3D-D4E7A0CF3D7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08F5AF4-20D9-451D-B97C-F088125A6E7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1C53BB2-4C8B-4E4C-AE20-51BE491441C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A95E6C0-4054-4982-86C1-E73ACAABEB2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2361759-96C0-4638-BC46-33C2D16B635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D1488E6-23B7-444C-A32E-7DB2B9FCB38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D0D75CA-EB8C-4351-B8AD-A808080883B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C7B9FFF-8795-4866-8A03-BE157BCC147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A8B61CD-CACA-4AEF-AA62-583936DC6A0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7928273-C5D8-4260-BBB6-2F53124C006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60B26DA-16A9-47AF-9E0D-0CD6AC9DE8E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56CB3BC-7607-4D1C-9761-88877EA6EFCA}"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F38D21E-7979-4251-8318-F3DAE9F8EDF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68AD0BD-AF83-4C1F-AACF-4B4894904E3A}"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5598D14-B597-406A-BBFB-FD05A750ABB1}"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7CBE9C4-CA4E-4DA9-86B1-20C9F08EED59}"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0A3D7B-C7C2-46A6-B0C1-47BB010C76A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3A5BC2D-AA73-4F65-9D8D-7600C9EF7665}"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2AC7BC4-793A-427C-A52D-F166FD86ACC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5E2EDCD-F143-4C42-856F-99DF5972334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08D8D54-8918-4C2E-8E08-E3D042A89678}"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351EBAD-E2F5-4290-99C4-A7B3147F2C6C}"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2FDAFDA-A9FD-4470-9EA9-F7FDD20A9878}"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94F6533-673E-45FA-B58B-60C53966BA22}"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70206FD-F505-4AA8-BC4C-5C9F4DF11AC5}"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A899BC-A417-4225-A91E-50A813BCED5D}"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2021101-66CD-4436-8D60-401621EDF1B8}"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AE92420-FB39-463B-BA3A-22A8DE3278DF}"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8BD5216-123F-47B3-BB9B-7A26B57BA7AA}"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DC883AC-6124-4279-A6EF-57983B5EF855}"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E689039-463E-4054-982F-A9F818B57748}"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58AD428-87CF-4559-9926-A59238EF3DC8}"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A057FED-CBE6-453A-A951-BE3773D43058}"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F03E4C4-2246-4163-95F6-B05CFA0EA9D1}"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AE4476E-5E9A-43EF-9932-7F4DA83DF274}"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526DDE2-87DC-43A4-BFCE-C32F44CF81B7}"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D6A45CF-5DC1-4683-A9A6-F001BACC6EA7}"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FC2B43E-940D-44CA-93EA-17D2A1A9071D}"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EDEF2C2-A5C1-4ACA-A13B-00E9FE3A9F91}"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FF099AD-B410-48A2-AB59-99EE607E38D3}"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46B4F32-913D-403C-86AD-D01F8463A11E}"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68F7D90-3433-46DC-96E5-8F500CADDC7E}"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429CAC1-86D3-4198-92EF-9FFEA4364221}"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F594015-F23B-4AA0-9AFD-71B9FDF882F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E975B1C-6A0A-4A22-BF4A-B784F2BC2C2E}"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148EDE6-A6DE-45D8-AC8E-FFEA32919FE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E051C2D-B095-4EC1-9A66-4D36ABF8A2C5}"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AEB29C0-E017-4DBE-BCD1-4390D17B6B14}"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3D00B72-95DF-40E0-A360-DE37D4D148F9}"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75C76BA-6A90-43A2-B398-B84E9B3EA77B}"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BD26949-4ED3-4264-A9EA-D8065B97BE89}"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09C2DA6-9E3C-4372-81A6-5E64425D5776}"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1F4CC04-33F6-40A4-AF26-51D49D9C0CDE}"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F0CF01E-163D-43A4-B219-2CB3734B2E8A}"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67204FE-82C4-4FDB-AC07-E5A17DD02BBE}"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A9FB3FF-A44D-48D0-A8C1-78D4E63C905A}"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07C6FCB-751D-4D2D-BE5A-55DA98F34FD1}"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7D79484-974D-419F-88EC-5EC9C63539FB}"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0F2B7FC-6E0C-4F2F-8F6E-DA41746AF6B4}"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98B2868-41B5-4C14-A9EA-4748C21CD5C2}"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E721581-7D80-4C3D-BDCF-45ECBB62A559}"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6661D81-CCF1-42BD-9989-97DC2B6B0748}"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A1C9092-9A7D-4639-A206-9F8DB5657F06}"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3A4D71B0-5FAF-4069-9748-A6C9F4EF9339}"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8E7FA0A-4A2C-4744-8868-F61EF72DD5F0}"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C349CD9-FE80-4C43-9F70-1604CEFDA54B}"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BEE3F83-A123-4312-816E-B18662A999EF}"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BDB73B8-88AB-4596-81FD-7C7A8EBE7373}"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10CF5FF-FB41-4BE0-9E38-94E0EB9D7E15}"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3797A99-4717-48CE-B1CF-9B372361A3A2}"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29039E2-8638-4D9C-9A94-CFC20ED9AAEF}"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CC7F909-418A-4F6E-A2B4-D0CC0E3FC6DC}"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A7B90E6-9AA9-4271-8D2D-7B9BEC4C129C}"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0C24A7C-E4D7-4825-BF88-92141A966C3F}"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45E55A8-AD6A-4C6C-96EA-64141F0B8B1B}"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9D9D208-F46E-4B0F-9C8B-2E3CB9CFFE69}"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B1702FA-8B87-48C0-A587-1B734B237795}"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