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CFF7DD2-813C-44F5-8C27-05FA2FA75FF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309FC39-06B9-4FDD-A3ED-9FAF2B5E6D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C1160E-8A75-4FA5-ADA1-8988CCA7A7A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24CA15A-5198-49F0-99C1-6B22B42175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92F351-4425-4540-B829-F839E51453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02B1964-3C61-4B43-88F6-156A3E0EF90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C72AC5-3A4B-42E9-8F28-BCAD757BE06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404BD98-64AF-4375-B1F1-054EE1DBFBE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19FD7AF-9E22-4619-B2B1-B0B5D8AC659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CC0AAF3-9BC5-461B-A2FD-66A08CD20E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6C95EEA-23A0-470D-960E-31E84CCA66F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E201347-1E0E-437E-97B0-CB048C882F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10BC5B-B1A1-4AC5-BD42-06F00C14311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D295CFA-C17C-426E-AC99-700FF55057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E0F2A8-FA96-4644-95CF-D536EECBE6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A53FC76-3432-4877-BD1A-43394F7EFA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0C80DE-BF54-47B8-9325-FB5F1AC01B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67FE1D2-4ADA-4998-A639-A6EABEBB96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AC1B9A-FABA-44FB-828D-D4D5279D65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1904BB8-52C1-4CA9-A0B4-3210057CE31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C3325A0-7F46-43A3-BB23-15B5609A60E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1752B5-AD9A-4D4E-AD62-FC2F0E2EFE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DC185E-70CB-4D00-B68C-B620F5E0CD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3984EC3-C93E-4A6D-A63C-4D125063861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07543C-39CE-4459-87D3-9E57003758E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A24D058-C311-49F4-A612-36F9A4F5377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F61399F-2ADF-47BE-AB11-98F8B2C5BD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B082DE7-B083-4342-856D-322BB9A8516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08E20B0-1D15-4A20-999F-1F28FDC3226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E98CF9F-5187-4AB4-AFB3-22E2D81524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0DC8820-D4E9-4827-8BC1-FAAB172EE4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E91A17-72AB-45DC-9898-114DD39F65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8F7ACC-4804-47EC-BC1E-1AA95D8C1A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57A7B4-AD90-4509-A963-97B2F7DE05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6FF0CF-9155-44EA-8650-54C30A03AB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81260-5D57-4A96-8788-5ADD15488486}"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D63CD-1455-4F27-88FA-1C5AD63536E8}"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7F1108C5-6A6E-4922-9845-1D41F2FADC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EF5AF99-E729-42FC-B7C7-1D5C0BA00E36}"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1348F1B-968E-4BB4-91A4-069FB4EF64B0}"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A63FB16-71FA-47F0-9DB6-935D6F109F2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00380A1-6DD3-4BB6-A5DF-0764232F7CA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7F5A38-E4BC-46A6-AB43-A05C14C422DA}"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257DEB5-203D-4FC5-8B3E-B95A6FFE3389}"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E41BAB-29A4-4C97-A4A6-EF523604152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DA2020C-F24C-4303-9C34-B15926688979}"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25FBF64-DF84-4840-9046-8C0A6E4D0C85}"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6C311CA-8AB8-4B73-ABCB-29FF3926823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E808067-D0C4-41ED-A8FC-FBE4A5B6C1EF}"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C9C572-8B70-435D-9EF7-574823DEFB98}"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979738B-761C-4D7C-9517-C8667BAC0658}"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30B4380-417A-459D-97DE-FE7D21ACE985}"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20F1FC6-9E24-4094-999A-345618F7F100}"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F362B5C-8025-4908-982E-F4B605EE73E2}"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211D99-F3EB-4216-9DF5-8EB21582B02E}"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54EE807E-466D-4CB5-8408-F4C4AB0B0680}"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8FDBA3BD-D1D0-4188-A597-3D4542442875}"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F096EC-BF4C-4BAF-8645-7F75A2DCC1CA}"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52FC7A-3DE6-4A30-B3C0-7B3E873FCA84}"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E526F3-CC03-4C47-B137-FA3BD45490ED}"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D5C39FD-9C11-44E8-8DBC-F598AFAB4EEF}"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73FE7BB-8EF2-481D-924E-B9D5F9D6844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A087E44-0EEE-4506-A1AA-B5AA0491F6BE}"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357855-91D5-43AF-A357-E34081D9DF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390FBFA-D00E-46B8-BBF5-D7D7447E2682}"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1BDB12E6-4680-4693-AD6C-4592034EF7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979046C-824C-403C-9C0B-8C7F8C13B0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3360E80-4AEB-4F04-ABC6-30E0112872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7EE49C6-8E35-480B-B2BD-BDABEC10FCC2}"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9F40BC9-2442-45A8-B493-27653DE947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A6699BB-6029-4175-AAFD-64794FCB79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FC7403-6D83-44D1-935E-3A5C25F919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F932FBB-D3F1-4366-82B4-C83B4525ADCD}"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5EF1A89-4EF6-43DA-8BE0-8B749B68E8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F1F413-E51D-4A26-B71B-C6AF92CA7F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9673EEA-32A7-43E9-8628-0F1CE08042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BDC4460-C33B-4896-96BD-484F68004946}"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99EAEB1-FC0F-490C-BFEE-81FCC62378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54DA8FB-19BF-4A2B-9639-0900067990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616195D-3FAA-4C48-BA7F-E42F10D61D98}"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E587C23-7A4B-4709-88EE-1617464027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FDD7590-0DC9-4B0A-9ECC-EFC49ABA73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ECFB0B7-D9D1-4593-9766-09489264EC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54B93B2-9650-4988-9E3F-7055A5126F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74910FD-F1D9-45A7-B5FE-12905800A6A8}"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D4E469-D7FC-446F-B7BE-B140DEDEF1E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6D77C3-45A4-4475-8750-C072481CCE5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2AE416B-17C0-4A91-B923-A88A83325E14}"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B5701A0-4C15-4AD8-BE07-558EF844251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F907AB4-49D7-4B7C-98F1-04749DAAC9DE}"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E68C68D-CFC5-4FBA-B921-761A4C3E5CD3}"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F7A8FC8-BEE8-4C53-8BE9-A099AE2A785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979150C-82AD-4C58-9EC9-B30D94411677}"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84ADEE5-FA3B-4D21-BE3C-9206280F2C15}"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5E4D40-349F-434F-B53D-943AFB8C7138}"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CB55CC4-9292-4FE7-A165-85B7686389B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CF16970-0797-4C32-BCE1-9000BC0597A1}"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CD35165-4E93-4BCD-8014-71A5F0E455BE}"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A5FE96A-1C9F-4CE0-AC74-B1FE89224D1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78F6E78-D79F-4532-859B-7C17D87E8C9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D0543D2-B440-4499-8EE0-04970DF0E641}"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D4551B2-BF06-423A-BC06-B54EFFD55135}"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2382BB-E9D8-48AE-A1C9-C3D04591CF2A}"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3AD0763-23BB-487D-809F-BE65AACD40D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593BC28-BA88-4308-A1FF-F839D728D3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26714F-D86F-4550-8B7E-89A67053955B}"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85EC3C5-8F08-44EC-95D6-994838E20426}"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B48463B-5949-4A7D-958F-FA8B4E885608}"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3A2FFA7-79A6-42D5-BF1D-14DE855D0AC0}"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42D5FF7-B6E2-425E-AC2F-F51EDE5B20C1}"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919D104-8E53-4DD3-AF9D-00498F5CF7C2}"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762FD21-005B-4475-950E-6748EA070A6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AD186F5-ED85-4E43-9761-C792A7105F3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043A9B-EF5E-4064-BAF9-8B259E41A29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D4EBBB-2713-42B2-9632-87D4E76166DE}"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4C23F48-8429-43DF-9EC3-B9B98014E5E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868012B-75C6-48FA-BDB6-454AA999582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ECE7A91-C38E-4C7D-8DFA-2DBA74DF415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CA08B1-AE72-40E5-9522-CC82FDCF76A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7998D2E-E182-44BF-A1C8-F49D36B0DEA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82F4BBD-DA5A-4737-9420-B5767B3B0FEC}"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0ACDBD-8302-45D6-808E-830639F4240A}"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22040D9-B839-40D1-9094-1D09123EB2E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CD73F6D-669A-4FA2-B004-612A53CC3E5A}"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105D38-26B9-496A-87E3-43C41D11F97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411889C-703D-4E6B-BE0F-CAC90F9344DB}"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E47A88D-E1F5-4C56-AB39-E9CE3A4B6CBA}"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38B6D5-71F6-469B-957A-068930F7D68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9A69D78-A5D1-4EF9-96C2-90AE078E26AF}"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CB0669-E7B6-4E1E-888C-C81A61EBEE7D}"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2A953FBC-A516-48B9-A893-283F2BB38CF7}"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C2F367C-BAD4-4B22-9711-80B9D8FDCA76}"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A8AB5E-7B59-47E9-9AAC-0F26C064ED4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35F7069-F4AC-4692-BBF6-9C9090DFC54F}"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430B7453-679C-4301-BA07-A1C8A11B52AA}"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154037C-FB65-4D2E-8E27-0DD48C45321D}"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7D67F275-BE02-43DA-AE44-EA6B4764E6E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E1CF367-3EA2-46E2-A76B-5CE9D2DDEB7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C8D0C2-B38B-4AB8-BCFD-F3C60C77903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7F9DDDE-9314-45B3-9D2B-3B7052111547}"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6549AB-C8B6-4641-A8AD-EF8449E9FBB9}"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207359D-D6A5-4DC0-9AC0-49C2F7FE858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C136B7-AD64-4E6E-8567-22831B70AE4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73E383F-62D4-4280-958B-838510E512D5}"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07F3BC6-060E-4CB1-9250-24294F089F9D}"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10CD79E-5E01-4AD0-9504-BDFD7FDC5DF4}"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F9CA2BB8-30D8-4B5E-AB1A-B6FB13CA5509}"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165B3E6-41DE-4717-9DCB-C34067B46B73}"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FD0474D-3A4B-42C0-925F-BF1DD8DA8CA0}"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031552-CCA7-4D11-AB0D-3B7F877DDB18}"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B25DB35-0923-47AC-B867-8E0E83D58F40}"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D725691-759C-46CE-98CA-2F8D5B39D4C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6FA8B4A-8478-419A-A0EB-9DCB66F4BFA5}"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F97D1A-084F-4EAB-A01A-A3FB11BB8FB9}"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6887073-4355-4662-AD73-14801C32B373}"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4628DD-7F3E-422D-AD24-76E87376999E}"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4F895E-CBA5-44B2-B0BB-3A94038012CD}"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E0C5F1F5-6F46-4F33-AB26-36BD48F69D1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