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47382"/>
        <c:axId val="94915779"/>
      </c:barChart>
      <c:catAx>
        <c:axId val="62247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15779"/>
        <c:crosses val="autoZero"/>
        <c:auto val="1"/>
        <c:lblAlgn val="ctr"/>
        <c:lblOffset val="100"/>
        <c:noMultiLvlLbl val="0"/>
      </c:catAx>
      <c:valAx>
        <c:axId val="94915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47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9A5-2030-4F85-951A-5D81A088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689-E55F-47E0-BF85-6A08E1FD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EAB-2887-4DD8-B7A5-B7F9A105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5574-2FB8-445D-9C22-AFA746F1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606-0778-4DD6-8938-B1C072B5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3B6-A34B-47CF-9668-CD8296A7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845-3212-407D-A387-3C217C94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ADC-9330-4E68-BFF8-DBFD5938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E9B-661F-457B-8FD1-59EAD9B3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11E-BF1A-4BD0-82F0-BEFCF60E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97E-AA81-495C-B856-C40A56C8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4ED-0519-4B78-B57A-53EBAE61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740E3-65DB-4C3F-908F-06C5CE91C2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