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11086"/>
        <c:axId val="8792880"/>
      </c:barChart>
      <c:catAx>
        <c:axId val="75911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2880"/>
        <c:crosses val="autoZero"/>
        <c:auto val="1"/>
        <c:lblAlgn val="ctr"/>
        <c:lblOffset val="100"/>
        <c:noMultiLvlLbl val="0"/>
      </c:catAx>
      <c:valAx>
        <c:axId val="8792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1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058-3094-4132-A715-86799E3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519-0FD7-4D7B-B99C-6C6DF2E9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D12-A3CF-4E5C-B4C3-3DD37F2A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863-6649-4FED-BF25-08284976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D0E-2BDB-4547-A111-91D40A5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83C-FE44-40D0-8E80-B7BD7C3D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E52-510B-4855-AC6F-14DE0CA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8B5-EB0C-4BD0-9ABE-1CF196F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541-CD52-4156-A363-B439381F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F2C-43E1-4306-B3BB-D3D7CA3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948-6C18-4879-81FB-332E613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90E-9183-40BA-AF50-838817C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6047-9DEE-4AE5-A7C9-601D8054D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