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95187"/>
        <c:axId val="40632371"/>
      </c:barChart>
      <c:catAx>
        <c:axId val="995951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32371"/>
        <c:crosses val="autoZero"/>
        <c:auto val="1"/>
        <c:lblAlgn val="ctr"/>
        <c:lblOffset val="100"/>
        <c:noMultiLvlLbl val="0"/>
      </c:catAx>
      <c:valAx>
        <c:axId val="40632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951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7DE-70B0-4BA9-91B5-497B234D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21E1-EEAD-4A47-B792-A0C6CA2E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24A8-5DD6-4B24-AA9A-E3224DC2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E56-7318-4D5A-A55B-AC0AC12E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3B3-059A-4545-B45C-0A739CF3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FA0D-C922-483B-8180-D0383AB2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8A2-C312-41F2-8F12-0EA672EC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BE06-64C8-4372-BAF9-BDB01B0A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BF0-2B10-4ECF-B28A-DAEA99C9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96A7-D335-4B7C-A40E-DF931772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9B4F-8C09-419E-A452-434F6B1E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351-8E1E-469A-9CE0-4C5904DA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B43AA-2014-49D5-BF6F-40699EAFFB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