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08780"/>
        <c:axId val="13810641"/>
      </c:barChart>
      <c:catAx>
        <c:axId val="87708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10641"/>
        <c:crosses val="autoZero"/>
        <c:auto val="1"/>
        <c:lblAlgn val="ctr"/>
        <c:lblOffset val="100"/>
        <c:noMultiLvlLbl val="0"/>
      </c:catAx>
      <c:valAx>
        <c:axId val="13810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08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DA1-B620-4D5A-8F61-AEA5A91E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FA2-D0AC-4111-8B47-9FDE3C86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002-0EB9-42A4-983B-65476722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348-BFEC-40AE-90FF-F52B1897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B0A-E21A-4CD0-A08B-3BD1462A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683-B9F8-40D3-9607-BB9FF0F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CCF-AEB4-40C1-AD12-146B8BD9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C63-28DB-46F4-9190-71D5C3F0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2CF-2062-4AA0-8176-2ACF51BD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534-AF47-4639-AB1B-6C246987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240-C05C-48B6-B547-A70DEC5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9AC-1E8B-458A-B7C6-6A947CD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DB89D-763D-47DA-8903-5C55EC5204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