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16069"/>
        <c:axId val="5717490"/>
      </c:barChart>
      <c:catAx>
        <c:axId val="16616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7490"/>
        <c:crosses val="autoZero"/>
        <c:auto val="1"/>
        <c:lblAlgn val="ctr"/>
        <c:lblOffset val="100"/>
        <c:noMultiLvlLbl val="0"/>
      </c:catAx>
      <c:valAx>
        <c:axId val="5717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16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93B-730C-42E6-87B6-ED28D86F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8CB-D195-452F-B511-4532C607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62A-4F26-4F03-8A9A-0FBF7AA0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A07-395D-418A-9D09-80F7A8A4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505-0F79-4430-BA6C-3CDA49A4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227-BF90-4E98-99D0-F26DA81C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1D7-2B66-46BF-92EB-E29BF23F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815-8758-4AC2-92BA-3A4D27FE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35E-5D60-4D19-86AD-D6761269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7D1-829E-4AB5-BD5D-C7BEC339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B85-6A93-4502-BCC8-99A14D95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5F8-EA62-4A11-9315-62282E51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EB807-55E9-436F-9D5C-D67573327F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