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426574"/>
        <c:axId val="7351742"/>
      </c:barChart>
      <c:catAx>
        <c:axId val="87426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1742"/>
        <c:crosses val="autoZero"/>
        <c:auto val="1"/>
        <c:lblAlgn val="ctr"/>
        <c:lblOffset val="100"/>
        <c:noMultiLvlLbl val="0"/>
      </c:catAx>
      <c:valAx>
        <c:axId val="73517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26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71E2-E0EC-43F8-9DA7-8B59F16D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083-BE58-4F8A-983C-C9C53B57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54DA-854E-4B5F-9AF4-212AAFD5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2650-6A6A-4DA9-AE20-1F3EB643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7A83-07C6-46DD-A762-BDE44C99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4F45-ED8A-40F7-BA58-0037D03B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2E1E-01B6-47D7-AED4-B79EA695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4318-DA0A-4E47-BB6F-67919A8D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7B1A-A0F3-401C-84B9-ED0DE852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4055-FD46-449C-B1F3-4445E8A1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8BA4-BAB3-4BE4-AB58-CE500E95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BB7D-AE6C-49F3-BF04-C22EC1DC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1652A-5C33-4FCE-8E80-C299F2AAC4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