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43609"/>
        <c:axId val="62711950"/>
      </c:barChart>
      <c:catAx>
        <c:axId val="305436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11950"/>
        <c:crosses val="autoZero"/>
        <c:auto val="1"/>
        <c:lblAlgn val="ctr"/>
        <c:lblOffset val="100"/>
        <c:noMultiLvlLbl val="0"/>
      </c:catAx>
      <c:valAx>
        <c:axId val="62711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436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3978-5B9F-4481-B345-BDEA3D26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F16-5EF1-41F7-A77B-2691553D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049-352C-4FFC-BC83-A8FF7570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2AF-E3AD-4A2D-BE31-27866E52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73A-8AE0-41AA-8FED-BBCF60D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0939-9B1D-4407-B241-5D9BE154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A1A-B8B2-4DFB-BBB1-F484EB0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AC09-C313-4D4E-8445-37E5853A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B943-DCF0-41BA-A60B-D12CD59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14E-E6DE-47DE-A1E6-35A6A0A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3370-7DC8-4326-8F52-A22F9BB2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57B-D383-402D-B1BE-E6CA6C5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A669-6199-4E3D-89A4-B5A4D884FD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