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85967"/>
        <c:axId val="53841431"/>
      </c:barChart>
      <c:catAx>
        <c:axId val="67859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841431"/>
        <c:crosses val="autoZero"/>
        <c:auto val="1"/>
        <c:lblAlgn val="ctr"/>
        <c:lblOffset val="100"/>
        <c:noMultiLvlLbl val="0"/>
      </c:catAx>
      <c:valAx>
        <c:axId val="538414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859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CD89-7535-4026-A4D1-3C8B5E38E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088F-4C5A-44B9-A5B6-71636ED63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A042-9CB5-47BD-B747-DC8D18649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713F-93BE-44FF-AC61-C84DC5C18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674B-F60C-4D77-8A00-AFDA92F40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C490-A135-4A34-B635-D856F45E9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50FF-52F1-4395-A5CF-9FCCF4345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466B-88B6-435C-B659-E6B8DB18B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F3AC-9AE3-47AA-AC25-A1AC2CB99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DFE3-0128-4BA0-993D-00C8C4199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6B63-E17D-4CC2-B700-094FC6392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D2C8-AEA9-4890-9429-5202862AD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E858E3-CABA-456B-9A16-CCCF5C98009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