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84691"/>
        <c:axId val="97787041"/>
      </c:barChart>
      <c:catAx>
        <c:axId val="87384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7041"/>
        <c:crosses val="autoZero"/>
        <c:auto val="1"/>
        <c:lblAlgn val="ctr"/>
        <c:lblOffset val="100"/>
        <c:noMultiLvlLbl val="0"/>
      </c:catAx>
      <c:valAx>
        <c:axId val="97787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4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6A2-B2B1-4923-9CC3-FED88BC7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CD6-86A6-4F6E-9B25-BD16AE5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5ED-DAA7-4CAA-9782-07BD6516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14C-1134-4ED8-8A7F-876F680B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473-AB52-475F-9E4A-94F61EB7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A60-5381-4EBC-A271-27BA799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207-FC08-4292-9B63-385CD62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AE2-B00A-4486-B72C-AB980B5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E19-BF34-44CD-9A6B-FC6D44E7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55E-A22C-4EB5-AB3F-E5F057BD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7E7-25AD-45E8-93F2-AF09A11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604-2C30-4428-931C-02A3CC7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D3E1F-6F23-477C-B2E0-F19CACE1DB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