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78877"/>
        <c:axId val="46054647"/>
      </c:barChart>
      <c:catAx>
        <c:axId val="869788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54647"/>
        <c:crosses val="autoZero"/>
        <c:auto val="1"/>
        <c:lblAlgn val="ctr"/>
        <c:lblOffset val="100"/>
        <c:noMultiLvlLbl val="0"/>
      </c:catAx>
      <c:valAx>
        <c:axId val="46054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788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4F0D-1FFB-4A88-A318-38857979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EC7-B5C2-44C4-85E1-587E9178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EB97-BBC3-451E-883F-FD3405CE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AA3-7107-4272-AF83-2D4D5374D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EF7-9F70-41EF-BF57-03C88249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C99F-7B0F-42A3-B184-2FE4A422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8A2-35F3-4896-B8C2-4C48A514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850-D3FD-4C3F-8AFF-A9088340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9CC-FE1D-4361-A86D-16CF283B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C8A-C925-4519-8B3B-21BB8F43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6A71-9175-495F-A1C3-B1F65EB2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20CE-4B1B-43FF-9FAA-EB70E2F7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4D2C4B-0356-4FC4-BEAB-B1524D5E7D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