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86604"/>
        <c:axId val="88066941"/>
      </c:barChart>
      <c:catAx>
        <c:axId val="53886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66941"/>
        <c:crosses val="autoZero"/>
        <c:auto val="1"/>
        <c:lblAlgn val="ctr"/>
        <c:lblOffset val="100"/>
        <c:noMultiLvlLbl val="0"/>
      </c:catAx>
      <c:valAx>
        <c:axId val="88066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86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862-F950-4464-A66C-E1ED6F9A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FD9-7400-4365-A0F1-38A9CF3C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EB7-1C69-4DB8-B156-808EFFFF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344-5811-4804-9EAC-B05EC628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4E9-1B9D-401B-A6CD-DD8DDA7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1D3-7DBE-4F2E-B5BB-3E6F43E0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96A-A391-4476-812B-C47FF9FE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C84-991C-4AC3-B61F-E2AC9745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4E9-241E-42E2-91E9-F4016E7A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997-84D9-43CC-A4CE-B4BF858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48B-F373-48D9-8D5F-3F7628D6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682-E731-4978-8286-5C5AA1AF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76BCD-994C-4997-B4D4-C86557B0D0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