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76236"/>
        <c:axId val="52052474"/>
      </c:barChart>
      <c:catAx>
        <c:axId val="62776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2474"/>
        <c:crosses val="autoZero"/>
        <c:auto val="1"/>
        <c:lblAlgn val="ctr"/>
        <c:lblOffset val="100"/>
        <c:noMultiLvlLbl val="0"/>
      </c:catAx>
      <c:valAx>
        <c:axId val="52052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6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DF5-A219-49DC-92DE-0F228F54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A48-70EE-40B3-BDE7-D72DF5F4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6B2-FBAC-48AF-AEED-F75490DE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B01-89AD-4087-8589-BA21CDB8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260-3FD9-4CBA-966E-990478F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E6A-3447-4CA3-8D15-9D952652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97B-EC2C-441E-B12D-98D980E2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700-3C2F-4E1C-BFEE-AB1344F6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D33-49FC-4ADE-B3CF-5165CA7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2F2-A2A2-4017-8FB9-07848A4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AD2-FEF1-4341-BE97-C841327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919-1763-4091-8FB3-57CD80B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1F51-12AA-4AC9-965C-B15D8459B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