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39863"/>
        <c:axId val="57280044"/>
      </c:barChart>
      <c:catAx>
        <c:axId val="82439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0044"/>
        <c:crosses val="autoZero"/>
        <c:auto val="1"/>
        <c:lblAlgn val="ctr"/>
        <c:lblOffset val="100"/>
        <c:noMultiLvlLbl val="0"/>
      </c:catAx>
      <c:valAx>
        <c:axId val="57280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9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4C8-FE0A-4FA2-99C8-E6DFA155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388-0C1D-484A-AE74-348D00BC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BDA-3E32-4D23-A6FD-08DA8E69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0FA-2912-4977-9897-0CDBCE9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795-22FF-4CCB-973C-EFA54D8C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08D-7C5C-44E5-ACD0-FFD88C3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9C8-B299-408E-A709-62A5C62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4D0-5A0A-4E4D-A182-945BF15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B12-5872-4245-BA5E-54D1506B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FA9-BED3-4BD7-91E4-2EA5BFF3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FC6-3999-4D32-B10E-EB8ADDD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F0B-964D-43E4-BB18-CD9B0DC0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EDBAF-1157-456F-9119-A2E7A49F35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