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7273730"/>
        <c:axId val="45786344"/>
      </c:barChart>
      <c:catAx>
        <c:axId val="8727373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5786344"/>
        <c:crosses val="autoZero"/>
        <c:auto val="1"/>
        <c:lblAlgn val="ctr"/>
        <c:lblOffset val="100"/>
        <c:noMultiLvlLbl val="0"/>
      </c:catAx>
      <c:valAx>
        <c:axId val="4578634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27373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0A66A-145D-49C2-AFD3-70EEB5086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319AE-97A3-47F4-830C-053469B31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52BB9-254E-436F-8702-A47F630B4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2A8D7-F88D-464E-8E90-E423528FD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8E5DF-D162-4E17-8545-2FA5C1D89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0F236-9432-4A96-9B2B-5E50B80F0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60C59-7ABE-4E24-91A0-3149E6BBC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C3717-9B05-42E3-AFA6-B86254E4F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C48A5-12A3-453E-AFC9-32336A0BA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CAA6A-3D63-4CCD-B94E-2ADFD0A3E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70131-65C1-4EBE-8746-768846361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1BF66-545B-4B42-A377-6AE606E60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4F721B-4704-4AE2-89B6-CC31692BE48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