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FE9-180B-4220-B33A-C399C2F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F2A-A4C9-4FD3-8F89-9BAAD90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DFE27-0A51-41EF-9340-DB43472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D1F1A-0342-4BB9-9768-BF9A812E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DA1A5-EC9F-4B3B-8662-DB815CC8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8EDDA-3E33-4703-BE89-79F7657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EF46D-F5AF-4FCC-BC10-15F0010E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4EAC-37D7-49BE-8FA8-8671EC2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E02CF-038E-40A6-A455-CFC8AD6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BDCC6-6E50-4F60-9992-B84CE144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EA0A5-F699-4806-BF57-48D4C7E0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F46E6A-0184-43D8-AED0-C2808E63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953-F170-4FBF-AA7A-36A42E0A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7DFBD-A6FC-409A-99F7-FD634A1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CF7842-C3D7-4236-A055-7B20B7A8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590F2-377C-41C3-9941-BB9FFA2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491971-CEFD-438A-A97F-9CEA56C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99F65-A690-4295-889F-47041BC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C12F7A-AD8E-4961-9B7C-317E6D85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8A7EAE-4B01-4832-A5C4-3B99DAD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9DDF4C-DCEA-4247-8D41-1861918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B3469B-2279-4A84-9F78-1705A64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69425-D8E7-417A-98D9-0C11E157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493-89E6-49A1-A929-18039401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3DF6BF-3AE6-42FB-AEBC-529F997E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E7AF-618F-48C5-B01A-7A79198F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1EF98-04CE-4CE0-B918-8AAD4ED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8029A-7ED0-453C-A945-09A5EF7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98DC8-D2C1-4225-952F-B56780C4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F276-C7D8-498F-8CE2-20320BF9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D67E0-766B-44A6-BD7D-E42FDA2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32B39-D91E-4817-ADDA-EA3CBFB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16984-0885-47A3-ABD3-0250A886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4884-F1F7-41A9-BB84-0CF1FF3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BAB6-92ED-422A-8932-5FCD5D3F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57A0B-1E3E-49D4-9B37-BB7DF2C3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8C724-571B-48FC-9AB1-4A2D35DC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C5C40-F6FE-406F-89A4-BF94A944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8E5E8-7274-4110-9305-B5AC9EEC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169F0-7367-4F71-9AE5-64A1425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B80BF-978C-4844-B468-C0750F5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91B31-38A4-4C03-AAB5-FC604B2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9A33A-4E0F-46CA-B1D4-2D6C6E69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87AA4-8468-4900-BD09-3AB688E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67E8-4398-4808-B49A-5F7E49B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A03E-373A-40F4-8345-B019EFA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972B0-D300-415E-B3CD-944C2595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7EC88-964C-4CE9-982F-39AA028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C9443-500A-44D0-9FAA-22B475DE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4F82B-9262-473D-8B76-D7A1FD1D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43261-3F98-4D56-9483-00A99988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A27-9248-4B35-9BDE-BD971E4B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D4D7-DFF4-4853-A0D2-7EE5CC8A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A4A-E196-4D60-B133-5E49A2A2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161-4B7D-45AA-AF33-89996E9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0C7D-7245-4BCE-9203-49C03F3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B6C-9159-4133-A2E8-EDBD4E97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671E-5562-4652-9F4F-A1009D8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657-1705-49E7-998C-46AC6DD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AED-B77B-4F77-ADAB-C8C228EF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4CA3-E4EE-4F0B-9634-10CE543A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919-5520-4493-8151-5F19E844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31E9-D01B-4B2A-A6DE-BDF71098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99C56-9CC4-44E0-B6CD-BEC8051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2CD2-06C5-4050-A3C2-3E6DA273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CA4B-23D7-4987-B461-A4603FD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771E-0757-451A-97A1-2BCC7A6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4EC-D20A-4884-A3C2-EA816573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A73E-F2CC-469D-84D4-18E3AF32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BCB4-C23A-445E-842A-73F7FE2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99F8-E3A5-4156-A356-30BAD83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526F-2F5F-4B9A-BCC2-39EB673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9F5A-E185-45F1-A078-0D2A7E4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18B3-2694-4382-B8F7-F5A3E2DE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D468-81B7-4013-A83E-0A3ACFE2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8C44-27D2-4278-889B-2A9B6CE2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0667-D669-4262-B1C5-AF2482B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E9D2-4E05-4AC8-A157-9395A9B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234-3B36-4F32-85B1-B814844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1355-5C86-44BB-B30C-65953079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9A45-FEC6-4FF3-A867-83162558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62E3-C1EB-4379-B775-102C2561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A23D8-7A17-478D-9D23-83D49E8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5F55-DFD9-4C3F-8CCC-51F5F07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38E5-4A3D-4429-BDD9-2F9A6D8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A073-005A-4853-9960-F10C9BA5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938D-619B-4AE0-8CE6-B2F07C26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F15E-51B3-4130-8BF8-E37F7F6C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4D3E1-4582-4B90-B372-7FEF1ADE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4F0-1520-4B88-8D4B-115F471F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7F02A-6932-4ED1-B462-377225B5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C4B13-BA12-44A7-8284-FA0169B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6970A-2E9A-4382-A3B4-C26B944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869C2-90DE-4DEB-BF85-89476798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229D5-50BC-4C43-A91D-31A1778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C26F6-239D-4E18-B914-ECB4A971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3C5F5-8A40-4F49-B8FB-AB72473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3A968-0592-4B9D-A4CF-34F4839E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E3940-0E25-4899-ACC5-46D3657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8FB6A-512A-402F-AE70-FAB3F34F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1C7-2AD5-4255-B09F-A6884FC4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3BA01-80BA-4F0D-BEFB-2B2840C0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8A12-58D0-4A35-B966-BC919028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A3A6-6AE1-4DF1-BD4B-58D39B45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CC09-59C6-4405-BFA9-94E15E6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2D3A3-F96F-4E5A-918F-A9D8B10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6DF2-2894-4E71-8EC2-079EC45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DD9AF-9AAE-4C98-9541-841DFFB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01C2-9DCD-4DAE-A410-C219921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1FE8-9F15-4997-AB48-20A6394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F95C-4BB0-4B88-87D9-2EA1881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8D2-D47D-4DC9-9DF8-3668135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2109-32A9-4FC0-9DD8-8BD2A8EA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E6E3-0408-4392-851D-4C3E642E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8BCA-B9F3-40F8-8902-025A9777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99C8E-99AA-450F-9A2A-C5549EF5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D05DF-C88E-4115-BE6C-6994C56B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D6197-7FFE-4A68-9DBE-96043CFC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E6BF4-2225-40D3-A282-76751EF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B6CD2-83E2-418F-BABB-477EFC6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B8CF5-C19B-4D9D-94E7-0380E7A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B77C-F039-43FD-8005-855253D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87B-1CB2-448E-8568-5D19CA5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6061C-9D77-4998-884F-161EF302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0A71-AFE9-4012-B9FE-DA7E0AD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F373-A65F-4496-9416-C3C7F26D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E570-7918-4B96-814A-5224ACB6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BEE31-3A7E-4F6C-A171-AEC199A6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F03ED-282A-459C-A205-5CC103DE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B0FA9-A4CB-4292-94EC-AC07A917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B758-DA94-42B5-9CEB-8B32EE8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ECD2-A785-4CB5-94AD-D86751C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2A6E-0AE8-4507-B8D7-8381BC4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022-7E44-49F7-892D-E74F942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089F1-68D1-4CB2-AF22-07E0471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8D0A-124A-48E1-881B-05AD7467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68D96-43B0-4A22-98C0-B650B03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7D8B-F48E-474B-8EEE-5DADB5C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4E7E5-D59D-46F9-B5CD-18245A7D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EC48C-28F8-4CE4-B4C8-9BD79C70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90721-0876-47BF-AF40-8A79CADD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F3640-CE5F-4F68-A8B8-837DA50B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6D742-4A06-440E-A8DC-FC67E48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B5DC-99FA-4ECF-B61C-96D8364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91A-9783-4F34-9FA4-DC22F2F8A2A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B3F1-83AB-4762-A2E0-1DEAD95A7E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4BEE-6137-4F78-A040-8622876EFD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E483-2072-4E9D-B415-332AF9F1C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3A2B-28C3-44BD-AF34-148FBB578F2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EBC-89BC-40F8-AF0A-527AADEE11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937-71FD-4306-86F6-80C1EA0CE40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AFCE-3D72-4736-B508-62BB01C20CA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EDF1-E540-4B13-BB15-31697AFD0E6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230B-C378-42E7-A9E9-20DF9EF0E3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2B56-EA7D-476B-B2B4-598890F886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718-99E5-4C21-B7D3-37F8BAE40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3FD-2473-46EE-9507-52A2AA396D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A7F-83D4-4AA6-AE27-EF244BEC7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2B4-A51C-48C7-AC5E-2C28103D08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9B7-4F57-4BEC-B331-2D28329219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8467-9927-4554-A277-051D1B66EE1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D5F6-2C7E-4E72-979C-90A717D626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4DF-115E-4678-9A1F-7614B3CBFF7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35E9-0AB3-4834-A9D6-2C2D22A479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40D9-AD13-4742-AC83-98F36D12B2F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F050-4280-4DEA-A854-19699958A6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006-415C-49AB-8E07-7786D955E2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9AA4-12C3-488D-97E7-35344262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198-9F30-490C-BF30-559640B2A0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641AF-96E8-463D-9D07-181ED6EE071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0FBA-739F-4DFF-A206-75D038FA6F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6C7F0E7-A7EA-48A2-8C97-75DA69D445C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F647-5B8A-4D72-962A-F643C8A4B03F}" type="slidenum">
              <a:t>3</a:t>
            </a:fld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A501B-E2A2-4646-A75B-345099574FF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446C438-C22F-49B0-9D24-0801D3A83C03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B30E-B1DA-4186-97CD-C38C9F4FDD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A6FD61E-193D-4351-BAF0-9CA29F25A1CD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C678C-A6F1-4FF7-AA22-3C600D13D2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42A104B-CD51-4C0D-B6B1-1E52BB70B315}" type="datetime1">
              <a:rPr lang="en-US"/>
              <a:t>07/30/26</a:t>
            </a:fld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