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25979"/>
        <c:axId val="2579527"/>
      </c:barChart>
      <c:catAx>
        <c:axId val="95125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9527"/>
        <c:crosses val="autoZero"/>
        <c:auto val="1"/>
        <c:lblAlgn val="ctr"/>
        <c:lblOffset val="100"/>
        <c:noMultiLvlLbl val="0"/>
      </c:catAx>
      <c:valAx>
        <c:axId val="2579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25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E21-2D20-4C96-8955-190D9A89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5AB-63F4-4497-9F09-DAC2B89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36A-CAFF-4B39-BE1B-4C54912F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39C-98E9-4202-9B1D-39E1007D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3CA-81D9-4EA2-B2B0-1B658D0A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61E-8387-47E1-9EBA-4271706B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CFB-075A-4F86-B04D-8D23626A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380-1189-4233-8507-3990B4FB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BC9-30BC-4681-9EF0-B11F0E8F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6BE-5D07-4A8C-81C4-4B13EB0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99A-F883-4E85-B697-8408F6B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DAF1-0848-4C47-9124-E3A01EE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A0AE0-3A3F-48B8-951A-54EA3E992A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